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C80-3CEA-4790-A246-576DE2FA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BD1-2634-485E-A5D3-4262A258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16F-847E-446D-9D66-794CD815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BCA-E8B4-4782-9957-8AB6B69B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142-D630-45A0-98B4-4BF9478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DF1-EBDC-4027-82A0-0CC89894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7A2-E070-4C72-AAEA-1C191703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DCF-D4AC-4F56-9085-2EECD86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85E-F484-4BE9-A072-B92B416C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F62-F9D5-4F36-B8D7-3064A3D3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D61-D577-4385-AAE0-C110FDB7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51A-E248-4355-86A0-F29C805D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F61-B31E-41EB-B8E3-96074FD98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18:52Z</dcterms:created>
  <dc:creator>SUHAS</dc:creator>
  <dc:description/>
  <dc:language>en-US</dc:language>
  <cp:lastModifiedBy>SUHAS</cp:lastModifiedBy>
  <dcterms:modified xsi:type="dcterms:W3CDTF">2009-09-28T19:19:11Z</dcterms:modified>
  <cp:revision>1</cp:revision>
  <dc:subject/>
  <dc:title>Slide 1</dc:title>
</cp:coreProperties>
</file>